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156325" cy="485933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7800" y="193680"/>
            <a:ext cx="5540040" cy="8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7800" y="1137240"/>
            <a:ext cx="554004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7800" y="2609280"/>
            <a:ext cx="554004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7800" y="193680"/>
            <a:ext cx="5540040" cy="8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7800" y="1137240"/>
            <a:ext cx="270324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46760" y="1137240"/>
            <a:ext cx="270324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7800" y="2609280"/>
            <a:ext cx="270324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146760" y="2609280"/>
            <a:ext cx="270324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7800" y="193680"/>
            <a:ext cx="5540040" cy="8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7800" y="1137240"/>
            <a:ext cx="178380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2181240" y="1137240"/>
            <a:ext cx="178380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054680" y="1137240"/>
            <a:ext cx="178380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7800" y="2609280"/>
            <a:ext cx="178380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2181240" y="2609280"/>
            <a:ext cx="178380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4054680" y="2609280"/>
            <a:ext cx="178380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7800" y="193680"/>
            <a:ext cx="5540040" cy="8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07800" y="1137240"/>
            <a:ext cx="5540040" cy="28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7800" y="193680"/>
            <a:ext cx="5540040" cy="8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7800" y="1137240"/>
            <a:ext cx="5540040" cy="28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7800" y="193680"/>
            <a:ext cx="5540040" cy="8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7800" y="1137240"/>
            <a:ext cx="2703240" cy="28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146760" y="1137240"/>
            <a:ext cx="2703240" cy="28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7800" y="193680"/>
            <a:ext cx="5540040" cy="8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307800" y="193680"/>
            <a:ext cx="5540040" cy="376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7800" y="193680"/>
            <a:ext cx="5540040" cy="8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7800" y="1137240"/>
            <a:ext cx="270324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146760" y="1137240"/>
            <a:ext cx="2703240" cy="28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307800" y="2609280"/>
            <a:ext cx="270324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7800" y="193680"/>
            <a:ext cx="5540040" cy="8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7800" y="1137240"/>
            <a:ext cx="5540040" cy="28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7800" y="193680"/>
            <a:ext cx="5540040" cy="8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7800" y="1137240"/>
            <a:ext cx="2703240" cy="28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146760" y="1137240"/>
            <a:ext cx="270324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3146760" y="2609280"/>
            <a:ext cx="270324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7800" y="193680"/>
            <a:ext cx="5540040" cy="8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7800" y="1137240"/>
            <a:ext cx="270324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146760" y="1137240"/>
            <a:ext cx="270324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307800" y="2609280"/>
            <a:ext cx="554004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7800" y="193680"/>
            <a:ext cx="5540040" cy="8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7800" y="1137240"/>
            <a:ext cx="554004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07800" y="2609280"/>
            <a:ext cx="554004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7800" y="193680"/>
            <a:ext cx="5540040" cy="8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7800" y="1137240"/>
            <a:ext cx="270324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146760" y="1137240"/>
            <a:ext cx="270324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07800" y="2609280"/>
            <a:ext cx="270324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3146760" y="2609280"/>
            <a:ext cx="270324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7800" y="193680"/>
            <a:ext cx="5540040" cy="8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7800" y="1137240"/>
            <a:ext cx="178380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2181240" y="1137240"/>
            <a:ext cx="178380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054680" y="1137240"/>
            <a:ext cx="178380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307800" y="2609280"/>
            <a:ext cx="178380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2181240" y="2609280"/>
            <a:ext cx="178380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4054680" y="2609280"/>
            <a:ext cx="178380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7800" y="193680"/>
            <a:ext cx="5540040" cy="8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7800" y="1137240"/>
            <a:ext cx="5540040" cy="28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7800" y="193680"/>
            <a:ext cx="5540040" cy="8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7800" y="1137240"/>
            <a:ext cx="2703240" cy="28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146760" y="1137240"/>
            <a:ext cx="2703240" cy="28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7800" y="193680"/>
            <a:ext cx="5540040" cy="8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7800" y="193680"/>
            <a:ext cx="5540040" cy="376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7800" y="193680"/>
            <a:ext cx="5540040" cy="8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7800" y="1137240"/>
            <a:ext cx="270324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146760" y="1137240"/>
            <a:ext cx="2703240" cy="28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7800" y="2609280"/>
            <a:ext cx="270324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7800" y="193680"/>
            <a:ext cx="5540040" cy="8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7800" y="1137240"/>
            <a:ext cx="2703240" cy="28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146760" y="1137240"/>
            <a:ext cx="270324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146760" y="2609280"/>
            <a:ext cx="270324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7800" y="193680"/>
            <a:ext cx="5540040" cy="8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7800" y="1137240"/>
            <a:ext cx="270324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146760" y="1137240"/>
            <a:ext cx="270324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7800" y="2609280"/>
            <a:ext cx="554004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hyperlink" Target="http://www.suprint.jp/studio/design_inquiry/regist.php" TargetMode="External"/><Relationship Id="rId3" Type="http://schemas.openxmlformats.org/officeDocument/2006/relationships/image" Target="../media/image1.jpeg"/><Relationship Id="rId4" Type="http://schemas.openxmlformats.org/officeDocument/2006/relationships/image" Target="../media/image2.wmf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52"/>
          <p:cNvSpPr/>
          <p:nvPr/>
        </p:nvSpPr>
        <p:spPr>
          <a:xfrm>
            <a:off x="1079640" y="1330200"/>
            <a:ext cx="399708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Line 53"/>
          <p:cNvSpPr/>
          <p:nvPr/>
        </p:nvSpPr>
        <p:spPr>
          <a:xfrm>
            <a:off x="1079640" y="1438200"/>
            <a:ext cx="399708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Line 54"/>
          <p:cNvSpPr/>
          <p:nvPr/>
        </p:nvSpPr>
        <p:spPr>
          <a:xfrm>
            <a:off x="1079640" y="2430360"/>
            <a:ext cx="399708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55"/>
          <p:cNvSpPr/>
          <p:nvPr/>
        </p:nvSpPr>
        <p:spPr>
          <a:xfrm>
            <a:off x="1079640" y="3417840"/>
            <a:ext cx="399708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Line 56"/>
          <p:cNvSpPr/>
          <p:nvPr/>
        </p:nvSpPr>
        <p:spPr>
          <a:xfrm>
            <a:off x="1079640" y="3525840"/>
            <a:ext cx="399708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57"/>
          <p:cNvSpPr/>
          <p:nvPr/>
        </p:nvSpPr>
        <p:spPr>
          <a:xfrm>
            <a:off x="1330200" y="1079640"/>
            <a:ext cx="0" cy="27018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58"/>
          <p:cNvSpPr/>
          <p:nvPr/>
        </p:nvSpPr>
        <p:spPr>
          <a:xfrm>
            <a:off x="1438200" y="1079640"/>
            <a:ext cx="0" cy="27018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Line 59"/>
          <p:cNvSpPr/>
          <p:nvPr/>
        </p:nvSpPr>
        <p:spPr>
          <a:xfrm>
            <a:off x="3078000" y="1079640"/>
            <a:ext cx="0" cy="27018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Line 60"/>
          <p:cNvSpPr/>
          <p:nvPr/>
        </p:nvSpPr>
        <p:spPr>
          <a:xfrm>
            <a:off x="4713120" y="1079640"/>
            <a:ext cx="0" cy="27018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Line 61"/>
          <p:cNvSpPr/>
          <p:nvPr/>
        </p:nvSpPr>
        <p:spPr>
          <a:xfrm>
            <a:off x="4821120" y="1079640"/>
            <a:ext cx="0" cy="27018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62"/>
          <p:cNvSpPr/>
          <p:nvPr/>
        </p:nvSpPr>
        <p:spPr>
          <a:xfrm>
            <a:off x="1330200" y="1330200"/>
            <a:ext cx="3490920" cy="2195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Oval 120"/>
          <p:cNvSpPr/>
          <p:nvPr/>
        </p:nvSpPr>
        <p:spPr>
          <a:xfrm>
            <a:off x="4863960" y="1031760"/>
            <a:ext cx="243000" cy="24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entury"/>
                <a:ea typeface="ＭＳ 明朝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Oval 121"/>
          <p:cNvSpPr/>
          <p:nvPr/>
        </p:nvSpPr>
        <p:spPr>
          <a:xfrm>
            <a:off x="4857840" y="3564000"/>
            <a:ext cx="242640" cy="24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entury"/>
                <a:ea typeface="ＭＳ 明朝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Text Box 13"/>
          <p:cNvSpPr/>
          <p:nvPr/>
        </p:nvSpPr>
        <p:spPr>
          <a:xfrm>
            <a:off x="1079640" y="1079640"/>
            <a:ext cx="190440" cy="190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Line 52"/>
          <p:cNvSpPr/>
          <p:nvPr/>
        </p:nvSpPr>
        <p:spPr>
          <a:xfrm>
            <a:off x="1079640" y="1330200"/>
            <a:ext cx="399708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53"/>
          <p:cNvSpPr/>
          <p:nvPr/>
        </p:nvSpPr>
        <p:spPr>
          <a:xfrm>
            <a:off x="1079640" y="1438200"/>
            <a:ext cx="399708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54"/>
          <p:cNvSpPr/>
          <p:nvPr/>
        </p:nvSpPr>
        <p:spPr>
          <a:xfrm>
            <a:off x="1079640" y="2430360"/>
            <a:ext cx="399708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55"/>
          <p:cNvSpPr/>
          <p:nvPr/>
        </p:nvSpPr>
        <p:spPr>
          <a:xfrm>
            <a:off x="1079640" y="3417840"/>
            <a:ext cx="399708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56"/>
          <p:cNvSpPr/>
          <p:nvPr/>
        </p:nvSpPr>
        <p:spPr>
          <a:xfrm>
            <a:off x="1079640" y="3525840"/>
            <a:ext cx="399708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57"/>
          <p:cNvSpPr/>
          <p:nvPr/>
        </p:nvSpPr>
        <p:spPr>
          <a:xfrm>
            <a:off x="1330200" y="1079640"/>
            <a:ext cx="0" cy="27018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58"/>
          <p:cNvSpPr/>
          <p:nvPr/>
        </p:nvSpPr>
        <p:spPr>
          <a:xfrm>
            <a:off x="1438200" y="1079640"/>
            <a:ext cx="0" cy="27018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59"/>
          <p:cNvSpPr/>
          <p:nvPr/>
        </p:nvSpPr>
        <p:spPr>
          <a:xfrm>
            <a:off x="3078000" y="1079640"/>
            <a:ext cx="0" cy="27018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60"/>
          <p:cNvSpPr/>
          <p:nvPr/>
        </p:nvSpPr>
        <p:spPr>
          <a:xfrm>
            <a:off x="4713120" y="1079640"/>
            <a:ext cx="0" cy="27018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61"/>
          <p:cNvSpPr/>
          <p:nvPr/>
        </p:nvSpPr>
        <p:spPr>
          <a:xfrm>
            <a:off x="4821120" y="1079640"/>
            <a:ext cx="0" cy="27018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62"/>
          <p:cNvSpPr/>
          <p:nvPr/>
        </p:nvSpPr>
        <p:spPr>
          <a:xfrm>
            <a:off x="1330200" y="1330200"/>
            <a:ext cx="3490920" cy="2195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120"/>
          <p:cNvSpPr/>
          <p:nvPr/>
        </p:nvSpPr>
        <p:spPr>
          <a:xfrm>
            <a:off x="4863960" y="1031760"/>
            <a:ext cx="243000" cy="24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entury"/>
                <a:ea typeface="ＭＳ 明朝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121"/>
          <p:cNvSpPr/>
          <p:nvPr/>
        </p:nvSpPr>
        <p:spPr>
          <a:xfrm>
            <a:off x="4857840" y="3564000"/>
            <a:ext cx="242640" cy="24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entury"/>
                <a:ea typeface="ＭＳ 明朝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3"/>
          <p:cNvSpPr/>
          <p:nvPr/>
        </p:nvSpPr>
        <p:spPr>
          <a:xfrm>
            <a:off x="1079640" y="1079640"/>
            <a:ext cx="190440" cy="190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グループ化 15"/>
          <p:cNvGrpSpPr/>
          <p:nvPr/>
        </p:nvGrpSpPr>
        <p:grpSpPr>
          <a:xfrm>
            <a:off x="54000" y="54000"/>
            <a:ext cx="6051600" cy="4699080"/>
            <a:chOff x="54000" y="54000"/>
            <a:chExt cx="6051600" cy="4699080"/>
          </a:xfrm>
        </p:grpSpPr>
        <p:pic>
          <p:nvPicPr>
            <p:cNvPr id="65" name="図 5" descr="">
              <a:hlinkClick r:id="rId2"/>
            </p:cNvPr>
            <p:cNvPicPr/>
            <p:nvPr/>
          </p:nvPicPr>
          <p:blipFill>
            <a:blip r:embed="rId3"/>
            <a:srcRect l="0" t="0" r="40409" b="0"/>
            <a:stretch/>
          </p:blipFill>
          <p:spPr>
            <a:xfrm>
              <a:off x="1897200" y="3853080"/>
              <a:ext cx="2368440" cy="900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6" name="Group 137"/>
            <p:cNvGrpSpPr/>
            <p:nvPr/>
          </p:nvGrpSpPr>
          <p:grpSpPr>
            <a:xfrm>
              <a:off x="54000" y="54000"/>
              <a:ext cx="6051600" cy="3678120"/>
              <a:chOff x="54000" y="54000"/>
              <a:chExt cx="6051600" cy="3678120"/>
            </a:xfrm>
          </p:grpSpPr>
          <p:pic>
            <p:nvPicPr>
              <p:cNvPr id="67" name="Picture 116" descr="ぬりたし説明"/>
              <p:cNvPicPr/>
              <p:nvPr/>
            </p:nvPicPr>
            <p:blipFill>
              <a:blip r:embed="rId4"/>
              <a:stretch/>
            </p:blipFill>
            <p:spPr>
              <a:xfrm>
                <a:off x="5132520" y="1044720"/>
                <a:ext cx="973080" cy="26874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8" name="Group 135"/>
              <p:cNvGrpSpPr/>
              <p:nvPr/>
            </p:nvGrpSpPr>
            <p:grpSpPr>
              <a:xfrm>
                <a:off x="61920" y="1547640"/>
                <a:ext cx="4546440" cy="1764000"/>
                <a:chOff x="61920" y="1547640"/>
                <a:chExt cx="4546440" cy="1764000"/>
              </a:xfrm>
            </p:grpSpPr>
            <p:sp>
              <p:nvSpPr>
                <p:cNvPr id="69" name="Rectangle 78"/>
                <p:cNvSpPr/>
                <p:nvPr/>
              </p:nvSpPr>
              <p:spPr>
                <a:xfrm>
                  <a:off x="1547640" y="1547640"/>
                  <a:ext cx="3060720" cy="1764000"/>
                </a:xfrm>
                <a:prstGeom prst="rect">
                  <a:avLst/>
                </a:prstGeom>
                <a:noFill/>
                <a:ln w="64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4160" rIns="74160" tIns="9000" bIns="9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0" name="Group 68"/>
                <p:cNvGrpSpPr/>
                <p:nvPr/>
              </p:nvGrpSpPr>
              <p:grpSpPr>
                <a:xfrm>
                  <a:off x="61920" y="1987560"/>
                  <a:ext cx="1476360" cy="684360"/>
                  <a:chOff x="61920" y="1987560"/>
                  <a:chExt cx="1476360" cy="684360"/>
                </a:xfrm>
              </p:grpSpPr>
              <p:sp>
                <p:nvSpPr>
                  <p:cNvPr id="71" name="Line 69"/>
                  <p:cNvSpPr/>
                  <p:nvPr/>
                </p:nvSpPr>
                <p:spPr>
                  <a:xfrm>
                    <a:off x="871560" y="2328480"/>
                    <a:ext cx="666720" cy="0"/>
                  </a:xfrm>
                  <a:prstGeom prst="line">
                    <a:avLst/>
                  </a:prstGeom>
                  <a:ln w="9360">
                    <a:solidFill>
                      <a:srgbClr val="00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Text Box 70"/>
                  <p:cNvSpPr/>
                  <p:nvPr/>
                </p:nvSpPr>
                <p:spPr>
                  <a:xfrm>
                    <a:off x="61920" y="1987560"/>
                    <a:ext cx="936360" cy="6843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1" lang="ja-JP" sz="1000" spc="-1" strike="noStrike">
                        <a:solidFill>
                          <a:srgbClr val="ff0000"/>
                        </a:solidFill>
                        <a:latin typeface="Century"/>
                        <a:ea typeface="ＭＳ 明朝"/>
                      </a:rPr>
                      <a:t>切れては困る物</a:t>
                    </a: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はこの</a:t>
                    </a:r>
                    <a:r>
                      <a:rPr b="1" lang="ja-JP" sz="1000" spc="-1" strike="noStrike">
                        <a:solidFill>
                          <a:srgbClr val="ff0000"/>
                        </a:solidFill>
                        <a:latin typeface="Century"/>
                        <a:ea typeface="ＭＳ 明朝"/>
                      </a:rPr>
                      <a:t>水色</a:t>
                    </a: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の線の内側に配置。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3" name="Group 71"/>
              <p:cNvGrpSpPr/>
              <p:nvPr/>
            </p:nvGrpSpPr>
            <p:grpSpPr>
              <a:xfrm>
                <a:off x="61920" y="2800440"/>
                <a:ext cx="1260360" cy="539640"/>
                <a:chOff x="61920" y="2800440"/>
                <a:chExt cx="1260360" cy="539640"/>
              </a:xfrm>
            </p:grpSpPr>
            <p:sp>
              <p:nvSpPr>
                <p:cNvPr id="74" name="Line 72"/>
                <p:cNvSpPr/>
                <p:nvPr/>
              </p:nvSpPr>
              <p:spPr>
                <a:xfrm>
                  <a:off x="871560" y="3070440"/>
                  <a:ext cx="45072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" name="Text Box 73"/>
                <p:cNvSpPr/>
                <p:nvPr/>
              </p:nvSpPr>
              <p:spPr>
                <a:xfrm>
                  <a:off x="61920" y="2800440"/>
                  <a:ext cx="936360" cy="539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1" lang="ja-JP" sz="1000" spc="-1" strike="noStrike">
                      <a:solidFill>
                        <a:srgbClr val="ff0000"/>
                      </a:solidFill>
                      <a:latin typeface="Century"/>
                      <a:ea typeface="ＭＳ 明朝"/>
                    </a:rPr>
                    <a:t>フチ無印刷</a:t>
                  </a:r>
                  <a:r>
                    <a:rPr b="0" lang="ja-JP" sz="1000" spc="-1" strike="noStrike">
                      <a:solidFill>
                        <a:srgbClr val="000000"/>
                      </a:solidFill>
                      <a:latin typeface="Century"/>
                      <a:ea typeface="ＭＳ 明朝"/>
                    </a:rPr>
                    <a:t>は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ja-JP" sz="1000" spc="-1" strike="noStrike">
                      <a:solidFill>
                        <a:srgbClr val="000000"/>
                      </a:solidFill>
                      <a:latin typeface="Century"/>
                      <a:ea typeface="ＭＳ 明朝"/>
                    </a:rPr>
                    <a:t>この</a:t>
                  </a:r>
                  <a:r>
                    <a:rPr b="1" lang="ja-JP" sz="1000" spc="-1" strike="noStrike">
                      <a:solidFill>
                        <a:srgbClr val="ff0000"/>
                      </a:solidFill>
                      <a:latin typeface="Century"/>
                      <a:ea typeface="ＭＳ 明朝"/>
                    </a:rPr>
                    <a:t>黒</a:t>
                  </a:r>
                  <a:r>
                    <a:rPr b="0" lang="ja-JP" sz="1000" spc="-1" strike="noStrike">
                      <a:solidFill>
                        <a:srgbClr val="000000"/>
                      </a:solidFill>
                      <a:latin typeface="Century"/>
                      <a:ea typeface="ＭＳ 明朝"/>
                    </a:rPr>
                    <a:t>い線まで伸ばす。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6" name="Group 136"/>
              <p:cNvGrpSpPr/>
              <p:nvPr/>
            </p:nvGrpSpPr>
            <p:grpSpPr>
              <a:xfrm>
                <a:off x="61920" y="1314360"/>
                <a:ext cx="4654440" cy="2105280"/>
                <a:chOff x="61920" y="1314360"/>
                <a:chExt cx="4654440" cy="2105280"/>
              </a:xfrm>
            </p:grpSpPr>
            <p:sp>
              <p:nvSpPr>
                <p:cNvPr id="77" name="Rectangle 86"/>
                <p:cNvSpPr/>
                <p:nvPr/>
              </p:nvSpPr>
              <p:spPr>
                <a:xfrm>
                  <a:off x="1440000" y="1440000"/>
                  <a:ext cx="3276360" cy="1979640"/>
                </a:xfrm>
                <a:prstGeom prst="rect">
                  <a:avLst/>
                </a:prstGeom>
                <a:noFill/>
                <a:ln w="64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4160" rIns="74160" tIns="9000" bIns="9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8" name="Group 74"/>
                <p:cNvGrpSpPr/>
                <p:nvPr/>
              </p:nvGrpSpPr>
              <p:grpSpPr>
                <a:xfrm>
                  <a:off x="61920" y="1314360"/>
                  <a:ext cx="1368360" cy="544680"/>
                  <a:chOff x="61920" y="1314360"/>
                  <a:chExt cx="1368360" cy="544680"/>
                </a:xfrm>
              </p:grpSpPr>
              <p:sp>
                <p:nvSpPr>
                  <p:cNvPr id="79" name="Line 75"/>
                  <p:cNvSpPr/>
                  <p:nvPr/>
                </p:nvSpPr>
                <p:spPr>
                  <a:xfrm>
                    <a:off x="871560" y="1587600"/>
                    <a:ext cx="558720" cy="0"/>
                  </a:xfrm>
                  <a:prstGeom prst="line">
                    <a:avLst/>
                  </a:prstGeom>
                  <a:ln w="9360">
                    <a:solidFill>
                      <a:srgbClr val="0000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Text Box 76"/>
                  <p:cNvSpPr/>
                  <p:nvPr/>
                </p:nvSpPr>
                <p:spPr>
                  <a:xfrm>
                    <a:off x="61920" y="1314360"/>
                    <a:ext cx="936360" cy="544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仕上がり位置。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この</a:t>
                    </a:r>
                    <a:r>
                      <a:rPr b="1" lang="ja-JP" sz="1000" spc="-1" strike="noStrike">
                        <a:solidFill>
                          <a:srgbClr val="ff0000"/>
                        </a:solidFill>
                        <a:latin typeface="Century"/>
                        <a:ea typeface="ＭＳ 明朝"/>
                      </a:rPr>
                      <a:t>青</a:t>
                    </a: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い線でカットします。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1" name="Group 131"/>
              <p:cNvGrpSpPr/>
              <p:nvPr/>
            </p:nvGrpSpPr>
            <p:grpSpPr>
              <a:xfrm>
                <a:off x="54000" y="54000"/>
                <a:ext cx="5065560" cy="900000"/>
                <a:chOff x="54000" y="54000"/>
                <a:chExt cx="5065560" cy="900000"/>
              </a:xfrm>
            </p:grpSpPr>
            <p:sp>
              <p:nvSpPr>
                <p:cNvPr id="82" name="Rectangle 65"/>
                <p:cNvSpPr/>
                <p:nvPr/>
              </p:nvSpPr>
              <p:spPr>
                <a:xfrm>
                  <a:off x="54000" y="54000"/>
                  <a:ext cx="1332000" cy="9000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36000" rIns="36000" tIns="36000" bIns="36000" anchor="t">
                  <a:noAutofit/>
                </a:bodyPr>
                <a:p>
                  <a:pPr>
                    <a:tabLst>
                      <a:tab algn="l" pos="0"/>
                      <a:tab algn="l" pos="1803240"/>
                      <a:tab algn="l" pos="3606840"/>
                      <a:tab algn="l" pos="5410080"/>
                      <a:tab algn="l" pos="7213680"/>
                      <a:tab algn="l" pos="9016920"/>
                      <a:tab algn="l" pos="10820520"/>
                    </a:tabLst>
                  </a:pPr>
                  <a:r>
                    <a:rPr b="1" lang="ja-JP" sz="1600" spc="-1" strike="noStrike">
                      <a:solidFill>
                        <a:srgbClr val="000000"/>
                      </a:solidFill>
                      <a:latin typeface="Arial"/>
                    </a:rPr>
                    <a:t>名刺　横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1803240"/>
                      <a:tab algn="l" pos="3606840"/>
                      <a:tab algn="l" pos="5410080"/>
                      <a:tab algn="l" pos="7213680"/>
                      <a:tab algn="l" pos="9016920"/>
                      <a:tab algn="l" pos="1082052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91×55mm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" name="Text Box 67"/>
                <p:cNvSpPr/>
                <p:nvPr/>
              </p:nvSpPr>
              <p:spPr>
                <a:xfrm>
                  <a:off x="1384200" y="54000"/>
                  <a:ext cx="3735360" cy="9000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000" rIns="36000" tIns="36000" bIns="36000" anchor="t">
                  <a:noAutofit/>
                </a:bodyPr>
                <a:p>
                  <a:pPr marL="114480" indent="-114480">
                    <a:buClr>
                      <a:srgbClr val="000000"/>
                    </a:buClr>
                    <a:buFont typeface="Arial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1" lang="ja-JP" sz="700" spc="-1" strike="noStrike">
                      <a:solidFill>
                        <a:srgbClr val="ff0000"/>
                      </a:solidFill>
                      <a:latin typeface="Arial"/>
                    </a:rPr>
                    <a:t>フチ無印刷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をご希望の場合、外側の黒い線まで背景や画像を伸ばして下さい。（右下図参照）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14480" indent="-114480">
                    <a:buClr>
                      <a:srgbClr val="000000"/>
                    </a:buClr>
                    <a:buFont typeface="Arial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切れては困る絵柄や文字等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は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、仕上り（青い四角）より</a:t>
                  </a:r>
                  <a:r>
                    <a:rPr b="1" lang="en-US" sz="700" spc="-1" strike="noStrike">
                      <a:solidFill>
                        <a:srgbClr val="ff0000"/>
                      </a:solidFill>
                      <a:latin typeface="Arial"/>
                    </a:rPr>
                    <a:t>2</a:t>
                  </a:r>
                  <a:r>
                    <a:rPr b="1" lang="ja-JP" sz="700" spc="-1" strike="noStrike">
                      <a:solidFill>
                        <a:srgbClr val="ff0000"/>
                      </a:solidFill>
                      <a:latin typeface="Arial"/>
                    </a:rPr>
                    <a:t>～</a:t>
                  </a:r>
                  <a:r>
                    <a:rPr b="1" lang="en-US" sz="700" spc="-1" strike="noStrike">
                      <a:solidFill>
                        <a:srgbClr val="ff0000"/>
                      </a:solidFill>
                      <a:latin typeface="Arial"/>
                    </a:rPr>
                    <a:t>3mm</a:t>
                  </a:r>
                  <a:r>
                    <a:rPr b="1" lang="ja-JP" sz="700" spc="-1" strike="noStrike">
                      <a:solidFill>
                        <a:srgbClr val="ff0000"/>
                      </a:solidFill>
                      <a:latin typeface="Arial"/>
                    </a:rPr>
                    <a:t>以上内側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（水色の四角の中）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に入れて作成してください。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14480" indent="-114480">
                    <a:buClr>
                      <a:srgbClr val="000000"/>
                    </a:buClr>
                    <a:buFont typeface="Arial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1" lang="ja-JP" sz="700" spc="-1" strike="noStrike">
                      <a:solidFill>
                        <a:srgbClr val="ff0000"/>
                      </a:solidFill>
                      <a:latin typeface="Arial"/>
                    </a:rPr>
                    <a:t>透過性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や</a:t>
                  </a:r>
                  <a:r>
                    <a:rPr b="1" lang="ja-JP" sz="700" spc="-1" strike="noStrike">
                      <a:solidFill>
                        <a:srgbClr val="ff0000"/>
                      </a:solidFill>
                      <a:latin typeface="Arial"/>
                    </a:rPr>
                    <a:t>半透明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、</a:t>
                  </a:r>
                  <a:r>
                    <a:rPr b="1" lang="ja-JP" sz="700" spc="-1" strike="noStrike">
                      <a:solidFill>
                        <a:srgbClr val="ff0000"/>
                      </a:solidFill>
                      <a:latin typeface="Arial"/>
                    </a:rPr>
                    <a:t>パターン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など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変換が正常に出来ない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場合があります。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14480" indent="-114480">
                    <a:buClr>
                      <a:srgbClr val="000000"/>
                    </a:buClr>
                    <a:buFont typeface="Arial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用紙サイズの変更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や、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トンボの移動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、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変形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など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なさらない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ようお願いします。　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14480" indent="-114480">
                    <a:buClr>
                      <a:srgbClr val="000000"/>
                    </a:buClr>
                    <a:buFont typeface="Arial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テンプレートを使用して</a:t>
                  </a:r>
                  <a:r>
                    <a:rPr b="0" lang="en-US" sz="700" spc="-1" strike="noStrike">
                      <a:solidFill>
                        <a:srgbClr val="000000"/>
                      </a:solidFill>
                      <a:latin typeface="Arial"/>
                    </a:rPr>
                    <a:t>PDF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を作成する際は、説明部分を削除してください。また、テンプレートと同じサイズかどうか確認してください。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84" name="Picture 134" descr="新Suprintロゴ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71280" y="557280"/>
                  <a:ext cx="543240" cy="3427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7800" y="193680"/>
            <a:ext cx="5540040" cy="8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07800" y="1137240"/>
            <a:ext cx="5540040" cy="28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19548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893880" indent="-1573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230480" indent="-15732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4" marL="1566720" indent="-156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5" marL="1566720" indent="-156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6" marL="1566720" indent="-156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>suprint</dc:creator>
  <dc:description/>
  <dc:language>en-US</dc:language>
  <cp:lastModifiedBy>ugo-99</cp:lastModifiedBy>
  <dcterms:modified xsi:type="dcterms:W3CDTF">2015-08-26T08:50:20Z</dcterms:modified>
  <cp:revision>17</cp:revision>
  <dc:subject/>
  <dc:title>スライド 1</dc:title>
</cp:coreProperties>
</file>